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0BC-E561-40AD-B687-059B4094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3084-5BD8-4D46-AEDA-F9BE4AD2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9367-904F-4A62-986F-C4CA1CEA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B43-02A6-4D70-949B-68F8E51C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071B-8FAF-4D5C-A764-82FD5D52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D7A4-7376-4C54-9910-B602BB1D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97F5-BE2F-456B-9F76-CE177F45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69AC-CA69-4925-9437-BCA3F5C6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D1A5-1BFD-41DE-93DF-8AB9ECA3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F4CE-365B-4265-A437-DA4FB3E5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D30A-380C-4F89-A4AB-DCD66663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37D-3560-4743-90BE-77F2BB95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80E9-B45A-40B1-BCDD-E2441150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3BCD-4791-43A3-B5C8-AF32D643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DD60-C674-423B-93AB-23C2BE08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59E4-D8B8-4DF0-A1E5-BA220337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D219-450E-4BA1-87DB-F0E7638A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73A1-0268-447A-8677-FAD7B746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4BC-AD29-4CF9-AAA4-F9341DBB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1B9-22FA-4929-9D52-814FE3EA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0CF-2707-41EC-8BF9-BDDD4136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F12-E3FE-4CD3-BF8D-0224D4DB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549C-A10D-4A8E-B90B-1DC30179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C67-570A-4F37-ABCC-09227A01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323B-9485-4A08-AE78-6A9C3DC843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DBFB-5190-4F2A-B9D2-242EC969AC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71640" y="0"/>
            <a:ext cx="784836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Muwashshaha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¡Ay, quien me diera esa cierva que ti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 su mejilla una rosa entre sierp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unque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sus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ánguidos ojos me hiere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hallo consuelo en su talle gallar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y en su esbeltez, si me ayudan mis h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use, rendido, a sus pies mi mejill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ro crecióse en orgullo y malic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y dijo, al ver que mi llanto corr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«¿Dónde aprendiste ese amor extremado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Dije: · En tus ojos lección he tomado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908000" y="404640"/>
            <a:ext cx="575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189000"/>
            <a:ext cx="6337440" cy="9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 replicó, y me dejó de una pieza «¿En acusar a mis ojos no cejas?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- le corté -, no por Dios, no te ofen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No he de mentar, si no quieres, mi agrav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Ya soy muslim convertido, y no ma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Tú, cuyos ojos al ciervo le afrenta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ú, que a la hurí con tu talle super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ú, cuya luz a las vistas anega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Credo secreto. es tu amor, y es, arc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he de tenerlo por siempre guardado.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260280"/>
            <a:ext cx="91440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¡Oh tú más bello de todos los ser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i corazón va en pos tuyo, y no vuel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Óyele cuando de ausencia se due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GAR KOM LEBARE DAL-GAIBA NON TA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¡YA WELIYOS DE L ASIQA, SIN NON 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Í CÓMO SOPORTAR ESTA AUSENCIA. ¡NO TAN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¡AY DE LOS OJOS DE LA ENAMORADA, SI NO ESTÁS TÚ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1:47:02Z</dcterms:created>
  <dc:creator> </dc:creator>
  <dc:description/>
  <dc:language>en-US</dc:language>
  <cp:lastModifiedBy>-</cp:lastModifiedBy>
  <dcterms:modified xsi:type="dcterms:W3CDTF">2008-10-06T23:25:36Z</dcterms:modified>
  <cp:revision>5</cp:revision>
  <dc:subject/>
  <dc:title>Diapositiva 1</dc:title>
</cp:coreProperties>
</file>